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DDA-3226-410E-8172-4A40C844B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5652-B5CE-4320-981B-4197B3D3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E5EC-84BA-445B-9BF0-A2E45BADD5B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3BD-08C7-40A6-83DF-6981E4AC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0E2-1AC5-4E3F-A9D6-CAB9FC40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164-E56B-448E-A971-B19274D4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6F6-A982-4E4A-8E89-49BFC228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84CF-20BD-4FAD-B746-8426A3E6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7CD-59B3-4B24-8A6C-A2F3DB2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2E8-C308-4E2D-8BC5-7434B36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8198-AC2D-43AF-9DF9-454F26A6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C4C-35DD-4B61-A15F-53794F6D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DC7B-F4D4-453B-BEB4-66701776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1781-6B1A-4865-961C-3E824A6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453-D3D7-443B-B2F9-14767EDF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52C7-20B2-497E-BBBC-0FB9BBB9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E7F9-B068-442E-BA3D-8DC168A2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2C58-01A3-49FE-9C2F-DFCAD99C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11CE-3F99-40E4-AAD9-EE2788E9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50FB-4E6A-49E3-9E80-2CA761D4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FCE-B54D-4E7D-9938-F573255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68A-6F73-4A7B-A874-E890A85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A46-35B9-42B7-8425-559B4C81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2DB-E762-4660-84B9-7D1220AF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743-0DBD-4A1C-B46E-F88F8A3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FC6-D8A0-4F7F-A869-4EF01004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4AC-98A1-4F8C-AE9C-3FCB808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1A0-C474-4110-9A7C-5B835FB5C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EE5-74F9-4ECE-829F-600D9359D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Light, Temperature, Air, and Water Effects on Pl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temperatures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t’s ability to withstand low temperatures is called it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ardin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y hardy plant can survive in a cold clima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area of the country is assigned a zone number (1 to 10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diness zones are derived from the average coldest temperatures for the ye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1647720" y="257040"/>
            <a:ext cx="584856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temperatures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t affects on pl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86°F plants are unable to process water fast enough to maintain normal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used to cre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lant heat-zone m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p shows 12 z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Wil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e water faster than it can be repl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an exchange of gases, photosynthesis shuts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0481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mperatures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57819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the quality of ai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contains carbon dioxide and oxygen, both of which are necessary for plant grow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xygen necessary for cellular respi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ed up mainly by the ro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bon dioxide is used for photosynthe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ed up mainly by the lea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174"/>
          <p:cNvPicPr/>
          <p:nvPr/>
        </p:nvPicPr>
        <p:blipFill>
          <a:blip r:embed="rId1"/>
          <a:stretch/>
        </p:blipFill>
        <p:spPr>
          <a:xfrm>
            <a:off x="6500880" y="4267080"/>
            <a:ext cx="249084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99"/>
          <p:cNvPicPr/>
          <p:nvPr/>
        </p:nvPicPr>
        <p:blipFill>
          <a:blip r:embed="rId2"/>
          <a:stretch/>
        </p:blipFill>
        <p:spPr>
          <a:xfrm>
            <a:off x="2590920" y="4648320"/>
            <a:ext cx="2844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the quality of ai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umid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is water vapor in the air, affects plant growt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humidity = increased growth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photosynthesis function smooth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humidity = stress on the pl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drawback of excessive humidity is the increase of leaf and flower dise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231"/>
          <p:cNvPicPr/>
          <p:nvPr/>
        </p:nvPicPr>
        <p:blipFill>
          <a:blip r:embed="rId1"/>
          <a:stretch/>
        </p:blipFill>
        <p:spPr>
          <a:xfrm>
            <a:off x="2743200" y="4495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the quality of ai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st in the air can reduce light intensity slowing photosyn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 pollutants, such as sulfur dioxide and ozone, can actually kill plant cells or the entire pl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232"/>
          <p:cNvPicPr/>
          <p:nvPr/>
        </p:nvPicPr>
        <p:blipFill>
          <a:blip r:embed="rId1"/>
          <a:stretch/>
        </p:blipFill>
        <p:spPr>
          <a:xfrm>
            <a:off x="2666880" y="3787920"/>
            <a:ext cx="42674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receive most water through the roo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fe processes (photosynthesis and respiration) of plants depend on wa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als are only absorbed if they are dissolved in wat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ter also comprises a large percentage of the plant cells, tissues, and orga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68"/>
          <p:cNvPicPr/>
          <p:nvPr/>
        </p:nvPicPr>
        <p:blipFill>
          <a:blip r:embed="rId1"/>
          <a:stretch/>
        </p:blipFill>
        <p:spPr>
          <a:xfrm>
            <a:off x="3505320" y="5029200"/>
            <a:ext cx="2438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ing of watering is critical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frequent = soil too w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aged plant roots caused by the lack of good air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enough = root death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er the quality of the cr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105"/>
          <p:cNvPicPr/>
          <p:nvPr/>
        </p:nvPicPr>
        <p:blipFill>
          <a:blip r:embed="rId1"/>
          <a:stretch/>
        </p:blipFill>
        <p:spPr>
          <a:xfrm>
            <a:off x="6248520" y="1600200"/>
            <a:ext cx="253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nts in containe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s should have drainage hol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water to drai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 oxygen into the root z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od rule of thum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ter plants thoroughly only when soil is d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31"/>
          <p:cNvPicPr/>
          <p:nvPr/>
        </p:nvPicPr>
        <p:blipFill>
          <a:blip r:embed="rId1"/>
          <a:stretch/>
        </p:blipFill>
        <p:spPr>
          <a:xfrm>
            <a:off x="3276720" y="4419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52280" y="152280"/>
            <a:ext cx="76201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ine the effect of light on plant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cribe a plant’s temperature need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plain how the quality of air affects plant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a plant’s water need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 plants get wate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ter should have a favorable pH rang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8 to 6.2 is best for most plant growt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ter should have a desirable range of soluble sal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Soluble salt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 dissolved mineral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 levels of soluble salts damages roo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111"/>
          <p:cNvPicPr/>
          <p:nvPr/>
        </p:nvPicPr>
        <p:blipFill>
          <a:blip r:embed="rId1"/>
          <a:stretch/>
        </p:blipFill>
        <p:spPr>
          <a:xfrm>
            <a:off x="2762280" y="4656240"/>
            <a:ext cx="34862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n emits a wide range of radi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we see = visible lig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ble light drives photosyn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nlight contains a complete blend of all visible co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ts need mostly the colors blue and red to activate the chlorophy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7" descr="222"/>
          <p:cNvPicPr/>
          <p:nvPr/>
        </p:nvPicPr>
        <p:blipFill>
          <a:blip r:embed="rId1"/>
          <a:stretch/>
        </p:blipFill>
        <p:spPr>
          <a:xfrm>
            <a:off x="3048120" y="4724280"/>
            <a:ext cx="27432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colors of light solicit different plant respo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light promotes seed germination, seedling growth, stem elongation, and influence flow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light reduces stem length, increases branching, promotes stem strength, can improve leaf and flower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27"/>
          <p:cNvPicPr/>
          <p:nvPr/>
        </p:nvPicPr>
        <p:blipFill>
          <a:blip r:embed="rId1"/>
          <a:stretch/>
        </p:blipFill>
        <p:spPr>
          <a:xfrm>
            <a:off x="2666880" y="4368960"/>
            <a:ext cx="3753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r-red light triggers a shade avoidance response in plants when levels of blue or red light are lo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ms stretch and become wea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ves become thinner and wid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reak seed dorm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intensity impacts plant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ight intensity elevates the rate of photosyn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t is able to produce more f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sity of light depends 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le of the s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u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s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ght intensity is greater in the sum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224"/>
          <p:cNvPicPr/>
          <p:nvPr/>
        </p:nvPicPr>
        <p:blipFill>
          <a:blip r:embed="rId1"/>
          <a:stretch/>
        </p:blipFill>
        <p:spPr>
          <a:xfrm>
            <a:off x="4300560" y="5105520"/>
            <a:ext cx="270972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25"/>
          <p:cNvPicPr/>
          <p:nvPr/>
        </p:nvPicPr>
        <p:blipFill>
          <a:blip r:embed="rId2"/>
          <a:stretch/>
        </p:blipFill>
        <p:spPr>
          <a:xfrm>
            <a:off x="7620120" y="1523880"/>
            <a:ext cx="1252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ts receiving the optimum level of light will be compact and have good leaf colo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ptoms of lower than optimum light levels include a slower growth rate, thin leaves, small flowers, dull leaf and flower color, and etiolation or stretch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periods of cloud cover can slow crop growth and ultimately reduce yield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226"/>
          <p:cNvPicPr/>
          <p:nvPr/>
        </p:nvPicPr>
        <p:blipFill>
          <a:blip r:embed="rId1"/>
          <a:stretch/>
        </p:blipFill>
        <p:spPr>
          <a:xfrm>
            <a:off x="3809880" y="4694400"/>
            <a:ext cx="32004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w does light affect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plants have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hotorecepto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light-sensitive pigment that absorbs 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s plant to respond to amount of l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the day (amount of light) can influe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phases of plant grow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owe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d germin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largement of lea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of bu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227"/>
          <p:cNvPicPr/>
          <p:nvPr/>
        </p:nvPicPr>
        <p:blipFill>
          <a:blip r:embed="rId1"/>
          <a:stretch/>
        </p:blipFill>
        <p:spPr>
          <a:xfrm>
            <a:off x="5562720" y="4130640"/>
            <a:ext cx="32004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temperatures are best for plant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change depending on the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temps = smaller leaves in lighter colors with thicker cu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temps = growing lower to the ground with short life cycles and parabolic dish-shaped flowers to collect light and he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s prefer temperatures between 32°F to 100°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228"/>
          <p:cNvPicPr/>
          <p:nvPr/>
        </p:nvPicPr>
        <p:blipFill>
          <a:blip r:embed="rId1"/>
          <a:stretch/>
        </p:blipFill>
        <p:spPr>
          <a:xfrm>
            <a:off x="1447920" y="4968720"/>
            <a:ext cx="2133360" cy="188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229"/>
          <p:cNvPicPr/>
          <p:nvPr/>
        </p:nvPicPr>
        <p:blipFill>
          <a:blip r:embed="rId2"/>
          <a:stretch/>
        </p:blipFill>
        <p:spPr>
          <a:xfrm>
            <a:off x="5181480" y="4648320"/>
            <a:ext cx="25909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0:31:35Z</dcterms:created>
  <dc:creator>Lindi Kocher</dc:creator>
  <dc:description/>
  <cp:keywords/>
  <dc:language>en-US</dc:language>
  <cp:lastModifiedBy>Alicia Burge</cp:lastModifiedBy>
  <dcterms:modified xsi:type="dcterms:W3CDTF">2011-03-31T01:06:00Z</dcterms:modified>
  <cp:revision>71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